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49CE-42C7-4132-883D-1F7D01448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D458-C9CC-43DE-9F84-67050A0A9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A474-C2EB-420A-97F2-6898D564C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ftb.org/15/anim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6C05-8CB7-4DA5-A053-88B7FD806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rederick_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bacteriolog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250/250F12_7pri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BB7A-A814-4365-AC15-B6F7DA02D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F3F3-5363-4B6C-B76D-9AAAD443A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A01F-996A-4989-9D21-233519EA0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 http://biology.kenyon.edu/courses/biol114/KH_lecture_images/How_DNA_works/how_DNA-wor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lc.org/view/16375-Animation-17-A-gene-is-made-of-DNA-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6EC1-8419-420E-AFA8-23AD32C1D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E56B-3D95-4483-B6EA-85A179A1F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35A3-D731-4C2D-AD6D-36A8252F9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1DEA-0D91-4611-94DD-3D192EE38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sites/daviddisalvo/2011/11/22/whats-your-dna-wo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5470-BCC9-4A51-A1D9-42644896B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8209-1C0E-4F45-9C76-6EE2E2926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en.wikipedia.org/wiki/Phoebus_Lev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7837-EC91-47D4-A51F-B95CD7019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ost.queensu.ca/~forsdyke/bioinfo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DE34-1C1B-4B13-BDD6-5E3DE62A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s://en.wikipedia.org/wiki/Rosalind_Franklin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EB31-5BBC-45C1-84D3-E29E41A83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discoveryandinnovation.com/BIOL202/notes/lecture9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5ACD-4875-44BF-8DF7-30ED53FF3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blog.bookstellyouwhy.com/watson-and-crick-controversy-immodesty-and-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aftb.org/dnaftb/19/concept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4CC3-3BB9-4228-8FCE-9CD667112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00F7-854E-48E6-8C38-9D86736D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877D-3E55-4086-9755-2C5541365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FDFD-A952-4CEE-AE82-BC7CABF0F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819A-759D-4EC4-AD3F-35D844616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9FEF-4DFD-48E9-82B6-ED66BF438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Terms: genes &amp; alleles, diploid &amp; haploid, homologous chromosomes, eukaryotic DNA vs. prokaryotic DNA, plasmids, 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, gene image: http://www.mayoclinic.org/tests-procedures/genetic-testing/multimedia/genetic-disorders/sls-20076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DNA image: https://www.sciencelearn.org.nz/resources/1900-bacterial-dna-the-role-of-plasm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718C-3933-42D2-9108-04BD4A8A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sciottichr.edu.glogster.com/ch-11-gl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8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hypothesized the existence of a hereditary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EF0-6572-4E84-B1BE-2EA2874D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46C-ABCC-4E86-BAF8-823B5A33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946-4200-4780-9ACA-92E5BE97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988-8004-4366-A457-CC1CFCDB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AA0-7EAA-4934-ACD4-9B8A4377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32D-1B39-4C4E-A35A-FED9B9F6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4C9-B5A6-4474-B172-13FE5AED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6C1-67AC-4D7B-AE2F-A9ECB0FB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63D-2F0F-4256-8E8A-1ABA1E95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CEF-C835-44A9-B494-E1A8784B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0F1-EE88-4D44-AB03-B0F9069D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212-5BBB-40D5-938E-BE2C006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71A5-EFC8-4F05-B408-DBDD63371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4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&amp; Function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1 &amp; 6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identity of the hereditary molec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 (186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29" descr="friedrich_miescher"/>
          <p:cNvPicPr/>
          <p:nvPr/>
        </p:nvPicPr>
        <p:blipFill>
          <a:blip r:embed="rId1"/>
          <a:srcRect l="0" t="13819" r="0" b="13819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pus (WBC’s) from bandages &amp; isolated an acidic substance with a large amount of phosphorus, which he called “nuclei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 (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140px-Griffithm"/>
          <p:cNvPicPr/>
          <p:nvPr/>
        </p:nvPicPr>
        <p:blipFill>
          <a:blip r:embed="rId1"/>
          <a:srcRect l="0" t="14166" r="0" b="14166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ed 2 strains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ptococcus pneumonia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6" descr="pneumococcus.jpg"/>
          <p:cNvPicPr/>
          <p:nvPr/>
        </p:nvPicPr>
        <p:blipFill>
          <a:blip r:embed="rId1"/>
          <a:srcRect l="-3378" t="0" r="-3378" b="0"/>
          <a:stretch/>
        </p:blipFill>
        <p:spPr>
          <a:xfrm>
            <a:off x="755640" y="692280"/>
            <a:ext cx="770256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ffith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27" descr="75780381407418910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ffith did not identify the “transforming principle” that changed the R-strain into the S-s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4, further experiments were carried out by Oswald Avery, Colin McLeod, and Maclyn McCarty to identify if it was DNA, protein, or R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y, McLeod,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29" descr="FG11_02"/>
          <p:cNvPicPr/>
          <p:nvPr/>
        </p:nvPicPr>
        <p:blipFill>
          <a:blip r:embed="rId1"/>
          <a:stretch/>
        </p:blipFill>
        <p:spPr>
          <a:xfrm>
            <a:off x="1828800" y="1981080"/>
            <a:ext cx="548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bacteriophage T2, to determine if transforming principle was DNA or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highered.mcgraw-hill.com/sites/0072437316/student_view0/chapter14/animations.html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phagestructure"/>
          <p:cNvPicPr/>
          <p:nvPr/>
        </p:nvPicPr>
        <p:blipFill>
          <a:blip r:embed="rId1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bacteriophage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HERSHEY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we already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NA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that DNA molecule contained 3 major components (deoxyribose sugars, phosphate groups, nitrogenous 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2" descr="Levene.jpg"/>
          <p:cNvPicPr/>
          <p:nvPr/>
        </p:nvPicPr>
        <p:blipFill>
          <a:blip r:embed="rId1"/>
          <a:srcRect l="-17764" t="0" r="-1776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5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each of the 4 nitrogenous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T, C =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2" descr="Chargaf2.jpg"/>
          <p:cNvPicPr/>
          <p:nvPr/>
        </p:nvPicPr>
        <p:blipFill>
          <a:blip r:embed="rId1"/>
          <a:srcRect l="-12364" t="0" r="-1236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salind Franklin &amp; Maurice Wilk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imag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 double helix shape &amp; orientation of sugar-phosphate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ontent Placeholder 2" descr="Rosalind_Franklin.jpg"/>
          <p:cNvPicPr/>
          <p:nvPr/>
        </p:nvPicPr>
        <p:blipFill>
          <a:blip r:embed="rId1"/>
          <a:srcRect l="0" t="7878" r="0" b="7878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salind Franklin &amp; Maurice Wilk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3" descr="diffract.jpg"/>
          <p:cNvPicPr/>
          <p:nvPr/>
        </p:nvPicPr>
        <p:blipFill>
          <a:blip r:embed="rId1"/>
          <a:srcRect l="-20830" t="0" r="-20830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0160" y="620640"/>
            <a:ext cx="84582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mes Watson &amp; Francis Crick (19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model of DNA with a double helix of 2 anti-parallel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 the Nobel Prize in 1962 (with Maurice Wilk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2" descr="watson_crick.jpg"/>
          <p:cNvPicPr/>
          <p:nvPr/>
        </p:nvPicPr>
        <p:blipFill>
          <a:blip r:embed="rId1"/>
          <a:srcRect l="0" t="-3915" r="0" b="-3915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view of 1.5 p.45-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ucleotide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image057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rna_and_dna-1cayhm3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polynuc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6" descr="bacterial_dna_oversize20161104-16695-1aveeiq.jpg"/>
          <p:cNvPicPr/>
          <p:nvPr/>
        </p:nvPicPr>
        <p:blipFill>
          <a:blip r:embed="rId1"/>
          <a:srcRect l="17360" t="0" r="17360" b="0"/>
          <a:stretch/>
        </p:blipFill>
        <p:spPr>
          <a:xfrm>
            <a:off x="4572000" y="2409840"/>
            <a:ext cx="4103640" cy="41878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5" descr="ds00549-your-genes-chromosomes-and-dna.ashx.jpeg"/>
          <p:cNvPicPr/>
          <p:nvPr/>
        </p:nvPicPr>
        <p:blipFill>
          <a:blip r:embed="rId2"/>
          <a:srcRect l="13157" t="0" r="13157" b="0"/>
          <a:stretch/>
        </p:blipFill>
        <p:spPr>
          <a:xfrm>
            <a:off x="395280" y="1773360"/>
            <a:ext cx="4032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 (late 1800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13304639"/>
          <p:cNvPicPr/>
          <p:nvPr/>
        </p:nvPicPr>
        <p:blipFill>
          <a:blip r:embed="rId1"/>
          <a:srcRect l="0" t="6709" r="0" b="6709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 plant experiments, inherited “facto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’s work led scientists on the path to discovering the hereditary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cp:keywords/>
  <dc:language>en-US</dc:language>
  <cp:lastModifiedBy>rubina khan</cp:lastModifiedBy>
  <dcterms:modified xsi:type="dcterms:W3CDTF">2017-03-10T11:34:09Z</dcterms:modified>
  <cp:revision>169</cp:revision>
  <dc:subject/>
  <dc:title>Molecular Genetics</dc:title>
</cp:coreProperties>
</file>